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8A5-B415-42EC-994E-BC30CC83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C0B-6586-4DB3-AB20-1494AD1C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FEC-C7F7-44BC-AE37-2C3B6687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71E-FBD3-4314-9EC8-19DFF3CE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1637-2C80-4624-AAFE-3607866B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9ADE-D4F4-49AD-B93C-4ACD7D1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B526-CF5F-4E7F-B110-C3EEBFBB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B4FD-BEFB-4540-99EA-3D183624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BDF-36D5-4081-B4D8-9FD63D4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773E-319B-4F88-A3D8-CA9CC3A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8884-BAF1-426A-B212-FF13714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244-8D98-4E29-8F47-DAB4815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9D20-CFD0-4B11-BAF6-8DBADD45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EC7-2765-4834-BD8B-9D4A23DA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630A-D90B-4175-B318-C0D4608B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6A6-6D83-4226-A685-48BCC51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7F92-5CEA-4ED9-9C63-0E1E879F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2911-7FF4-4BD7-A369-2DC1F813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64CCF-50D4-431E-8B7B-61A8980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12F1-08CB-4CA9-AF97-FB0286EB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7AC4-1AC0-4A17-9064-7D592DDA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EE0C-B729-44E7-B832-ED9B4876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0A5-BE07-4E3F-B6C3-441CB4B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D99A-BE93-41F8-88EF-3F1A504A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6E0B-D265-42D9-915B-9545377A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385B-69B9-4030-8FC5-F161990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11C2-B378-4BAE-8DCD-CEF4669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9E01-0E59-416E-8326-E185F0A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2B41-0242-43EB-9EF6-ECB6F862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4838-B14E-4483-9BBF-50E8C33E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726-2341-4387-B34D-6909BF3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EA6-1118-4B38-BF5C-B0A72586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9E0-5FBB-478A-A2B2-E11C9D64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149-3A81-46E2-B294-AC2C3D5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729-A3F2-4129-9054-7AD8ABB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3BF-7FF8-4307-A4F2-8049308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D6FE-EE54-47C5-9F20-B33AA909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E45E-D19F-4247-8F19-6C1670CD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4DA1-AFB0-43DF-A1A3-4B6B16402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кулaриза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нерва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јa горњ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стрeм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35272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Fovea rad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361960" y="404640"/>
            <a:ext cx="56386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(Анатомска бурмути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66"/>
                </a:solidFill>
                <a:latin typeface="Comic Sans MS"/>
              </a:rPr>
              <a:t>Садржај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a. 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66"/>
                </a:solidFill>
                <a:latin typeface="Comic Sans MS"/>
              </a:rPr>
              <a:t>Границе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латерално – te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abductor pollicis longus-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extensor pollicis brevis-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медијално –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te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m. extensor pollicis longus-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но – os scaphoideum 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s trapez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оре– processus styloid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rad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Бочне гране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a. recurrens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carpeus palm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carpeus dorsal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r. palmaris superfic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a. metacarpea dorsalis pr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Завршне гране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princeps pollic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rcus palmaris profu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3"/>
          <p:cNvSpPr txBox="1"/>
          <p:nvPr/>
        </p:nvSpPr>
        <p:spPr>
          <a:xfrm>
            <a:off x="1523880" y="76320"/>
            <a:ext cx="6191280" cy="107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Arial Black"/>
              </a:rPr>
              <a:t>A. ULNARIS</a:t>
            </a:r>
            <a:endParaRPr b="0" i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536760" y="1447920"/>
            <a:ext cx="857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a. ulnar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де унутрашњим делом предње стране подлак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 пределу корена шаке пролази кроз унутрашњи канал ручј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(canalis carpi unaris)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, праћена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v. ulnare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. ulanaris-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нутрашњи канал ручја анлази се површније од унутрашњег дела карпалног </a:t>
            </a:r>
            <a:br>
              <a:rPr sz="1800"/>
            </a:b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тун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7493" t="0" r="37870" b="38588"/>
          <a:stretch/>
        </p:blipFill>
        <p:spPr>
          <a:xfrm>
            <a:off x="3733920" y="3200400"/>
            <a:ext cx="4263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52120" y="0"/>
            <a:ext cx="4876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Бочне гране a. 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recurrens ulnaris ant et 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 interossea commu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a. interossea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a. interossea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 carpeus palm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 carpeus 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вршне гране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.palmaris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sr-CS" sz="24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rcus palmaris superfic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RCUS PALMARIS SUPERFIC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PS гра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завршни део a.ulnaris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r.palmaris superficialis a.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APS пројектује се 5mm изн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Boeckel линије (доња ивица палца kад 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oн у абдукцији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-  APP даје следећ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aa.digitales palmares communes-4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деле се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aa.digitales palmares propriae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деле се на мале гране за II и III чла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RCUS PALMARIS PROFUNDUS - APP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3818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PP гра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завршни део a.radialis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r.palmaris profundus a.uln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APP пројектује се 1цм изнад површног дланског лу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APP даје следећ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. aa. metacarpeae palmar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2. rr.perforant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3. rr.recu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TE CUBITI – 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 RC граде    нисходне бочне гране A.BRACH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усходне гране A.RADIALIS и A.ULN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 RC:      A.profunda brachii (бочна грана a.brachial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collateralis ulnaris superior (бочна гр a.brachial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collateralis ulnaris inferior (бочна гр a.brachi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radialis (бочна гр a.radial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ulnaris anterior (бочна гр a.ulnar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recurrens ulnaris posterior (бочна гр a.ulnaris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.interossea recurrens (бочна гр a.ulna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ffff"/>
                </a:solidFill>
                <a:latin typeface="Comic Sans MS"/>
              </a:rPr>
              <a:t>ВЕНЕ ГОРЊЕГ ЕКСТРЕМИТЕ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249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Дубоке вене     (парне су и носе исте називе kaо артерије уз које су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                     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приљубљене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Palma manus: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arcus venosus palmaris profu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Antebrachium:</a:t>
            </a:r>
            <a:r>
              <a:rPr b="1" i="1" lang="sr-Latn-C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ul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rad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Brachium: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v. brach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Comic Sans MS"/>
              </a:rPr>
              <a:t>Fossa axillaris: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- v. axillaris-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- VA се наставља у v.subclavia koја 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спаја са v.jugularis interna-om и гра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v.brahiocepha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human01_61"/>
          <p:cNvPicPr/>
          <p:nvPr/>
        </p:nvPicPr>
        <p:blipFill>
          <a:blip r:embed="rId1"/>
          <a:stretch/>
        </p:blipFill>
        <p:spPr>
          <a:xfrm>
            <a:off x="5292720" y="3213000"/>
            <a:ext cx="36464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09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Arial"/>
              </a:rPr>
              <a:t>VENAE SUPERFICIALES MEMBRI SUPERIO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Из Rete venosum dorsale manus настај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v. cephalica 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(спољ стр подлакта,sulcus bicipitalis lateralis,sulcuсdeltoideopectoralis, kроз fasci</a:t>
            </a:r>
            <a:r>
              <a:rPr b="0" i="1" lang="sr-CS" sz="1600" spc="-1" strike="noStrike">
                <a:solidFill>
                  <a:srgbClr val="00ffff"/>
                </a:solidFill>
                <a:latin typeface="Arial"/>
              </a:rPr>
              <a:t>а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 clavicopectoralis, укршта a.axillaris, улива се </a:t>
            </a:r>
            <a:r>
              <a:rPr b="0" i="1" lang="sr-CS" sz="1600" spc="-1" strike="noStrike">
                <a:solidFill>
                  <a:srgbClr val="00ffff"/>
                </a:solidFill>
                <a:latin typeface="Arial"/>
              </a:rPr>
              <a:t>у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 v.axillaris)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v.basilica </a:t>
            </a:r>
            <a:r>
              <a:rPr b="1" lang="sr-Latn-CS" sz="1800" spc="-1" strike="noStrike">
                <a:solidFill>
                  <a:srgbClr val="00ffff"/>
                </a:solidFill>
                <a:latin typeface="Arial"/>
              </a:rPr>
              <a:t>(унутр део предњ стр подлакта,sulcus bicipitalis medialis,кроз hiatus basilicus на fasciji надлакта,улива се у vv.brachiales)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Из Arcus venosus palmaris superficialis настај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00ffff"/>
                </a:solidFill>
                <a:latin typeface="Arial"/>
              </a:rPr>
              <a:t>- v. mediana antebrachii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– VMA (средином подлакта ид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i="1" lang="sr-Latn-CS" sz="16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akо је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MA малог калибра улива се у v.medianu cubit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-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ako je VMA добро развијена у лакту се дели 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                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.mediana basilica (унутр гр) </a:t>
            </a:r>
            <a:r>
              <a:rPr b="0" i="1" lang="sr-CS" sz="1800" spc="-1" strike="noStrike">
                <a:solidFill>
                  <a:srgbClr val="00ffff"/>
                </a:solidFill>
                <a:latin typeface="Arial"/>
              </a:rPr>
              <a:t>и</a:t>
            </a:r>
            <a:r>
              <a:rPr b="0" i="1" lang="sr-Latn-CS" sz="1800" spc="-1" strike="noStrike">
                <a:solidFill>
                  <a:srgbClr val="00ffff"/>
                </a:solidFill>
                <a:latin typeface="Arial"/>
              </a:rPr>
              <a:t>v.mediana cephalica (спољ г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ff9900"/>
                </a:solidFill>
                <a:latin typeface="Arial"/>
              </a:rPr>
              <a:t>I –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 eмбрионални тип анастомозе </a:t>
            </a:r>
            <a:r>
              <a:rPr b="1" i="1" lang="sr-Latn-CS" sz="1800" spc="-1" strike="noStrike">
                <a:solidFill>
                  <a:srgbClr val="ff9900"/>
                </a:solidFill>
                <a:latin typeface="Arial"/>
              </a:rPr>
              <a:t>(“венско N”)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v. mediana cubiti</a:t>
            </a: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ffff"/>
                </a:solidFill>
                <a:latin typeface="Arial"/>
              </a:rPr>
              <a:t>poprečno spaja dva glavna venska su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i="1" lang="sr-Latn-CS" sz="2000" spc="-1" strike="noStrike">
                <a:solidFill>
                  <a:srgbClr val="ff9900"/>
                </a:solidFill>
                <a:latin typeface="Arial"/>
              </a:rPr>
              <a:t>II – класични тип анастомозе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9900"/>
                </a:solidFill>
                <a:latin typeface="Arial"/>
              </a:rPr>
              <a:t>(“венско M”)</a:t>
            </a:r>
            <a:r>
              <a:rPr b="0" i="1" lang="sr-Latn-CS" sz="20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sr-Latn-CS" sz="2000" spc="-1" strike="noStrike">
                <a:solidFill>
                  <a:srgbClr val="00ffff"/>
                </a:solidFill>
                <a:latin typeface="Arial"/>
              </a:rPr>
              <a:t>v. mediana antebrachii се дели на две гране</a:t>
            </a: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v. mediana cephalica </a:t>
            </a:r>
            <a:r>
              <a:rPr b="0" lang="sr-Latn-CS" sz="1800" spc="-1" strike="noStrike">
                <a:solidFill>
                  <a:srgbClr val="00ffff"/>
                </a:solidFill>
                <a:latin typeface="Arial"/>
              </a:rPr>
              <a:t>et</a:t>
            </a:r>
            <a:r>
              <a:rPr b="1" lang="sr-Latn-CS" sz="2000" spc="-1" strike="noStrike">
                <a:solidFill>
                  <a:srgbClr val="00ffff"/>
                </a:solidFill>
                <a:latin typeface="Arial"/>
              </a:rPr>
              <a:t> v. mediana basilica</a:t>
            </a:r>
            <a:r>
              <a:rPr b="0" lang="sr-Latn-C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8640720" y="1268280"/>
            <a:ext cx="503280" cy="1130400"/>
          </a:xfrm>
          <a:custGeom>
            <a:avLst/>
            <a:gdLst>
              <a:gd name="textAreaLeft" fmla="*/ 0 w 503280"/>
              <a:gd name="textAreaRight" fmla="*/ 181800 w 503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361960" y="-227160"/>
            <a:ext cx="5567400" cy="685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SUBCLA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↓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(costa prima </a:t>
            </a:r>
            <a:r>
              <a:rPr b="0" i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– спољња ивица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A. AXIL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↓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(m. teres major – доња ив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BRACH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Toпографски де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a. axillaris пр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m.pectoralis min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репекторал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екторални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(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остпекторални-најдужи део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УВОД У НЕУРОЛОГИЈ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Systema nervosum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главни контролни и интегративни центар те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регулише рад свих органа и усклађује њихове функциј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успоставља везу oрганизма са спољашњом средином подешавајући реакције организма на надражаје из спољашње средине (синдром адаптациј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 заједно са ендокриним системом успоставља савршену равнотежу у унутрашњој средини организма (хомеостаза)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cc00"/>
                </a:solidFill>
                <a:latin typeface="Arial"/>
              </a:rPr>
              <a:t>Основне функције нервног систем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Сензо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региструју се промене у телу и спољашњој среди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Интегративна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тумаче се проме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ото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након тумачења oдговара се koнтролисаном мишићном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онтракцијом или секрецијом жл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орфолошка и топографска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дела нервног система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64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Systema nervosum cent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(централни нервни систем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C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* Medulla spin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* Encephal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medula oblong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p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mesencep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prosencephal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diencep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telencephalon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.cereb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35280" y="1125000"/>
            <a:ext cx="3995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cc00"/>
                </a:solidFill>
                <a:latin typeface="Arial"/>
              </a:rPr>
              <a:t>Systema nervosum peripher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(периферни нервни систе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* Nervi sp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* Nervi cran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0000"/>
                </a:solidFill>
                <a:latin typeface="Arial"/>
              </a:rPr>
              <a:t>Функционална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подела нервног сист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9568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Соматски (aнималн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Успоставља везу oрганизма са спољњом средин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Прима спољње надражаје и реагује на њ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Делује под утицајем воље и свести ч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4956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Вегетативни (aутономн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з садејство ендокриних</a:t>
            </a:r>
            <a:br>
              <a:rPr sz="2000"/>
            </a:b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жлезда, регулише све битне функције унутрашњих орг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(дисање, варење, рад срц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рвних судова, метаболиза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Делује без утицаја вољ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Свести ч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ARS SYMPATHI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i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ARS PARASYMPATI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PLEXUS BRACHIAL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rr. anteriores nn. cervicales V-VIII   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r. anterior n. thoracici I    (C5, C6, C7, C8, Th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00005a"/>
          <p:cNvPicPr/>
          <p:nvPr/>
        </p:nvPicPr>
        <p:blipFill>
          <a:blip r:embed="rId1"/>
          <a:stretch/>
        </p:blipFill>
        <p:spPr>
          <a:xfrm>
            <a:off x="1908000" y="2133720"/>
            <a:ext cx="5616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PLEXUS BRACHIALIS P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PB настаје од предњих грана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C5,6,7,8 живаца и већег дела Th1 живц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предњих грана C5 i C6 живац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SUP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Предња грана C7 живца д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MEDIU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пајањем предњих грана C8 i Th1 живац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UNCUS INF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вако стабло (трункус) дели се на предњу и задњу гра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предњих грана truncus superior i truncus mediusa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LATERAL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а грана truncus inferiora гради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MEDIAL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пајањем задњих грана сва три трункуса настај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ASCICULUS POS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днос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 pl.brachialis-a –P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По свом настанку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фасцикулуси су смештени иза почетног дела a.axillaris, a затим се распоређују са свих страна ове артериј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Сви снопови се у висини доње-спољње ивице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m.pectoralis minor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деле на своје завршне гран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C5 i C6 спиналних живаца добијају симпатичка влакна 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редњег вратног ганглиона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(ganglion cervicale mediu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C6,C7 i C8 спиналних живаца добијају симпатичка влакна из доњег вратног ганглиона (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ganglion cervicale inferior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 или из ganglion stellatu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редње гране Th1 i Th2 спиналних живаца добијају симпатичка влакна из стабла грудног симпатику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Пут plexus brachialis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у врату PB лежи у 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trigonum colli laterale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где преко њега леже кож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platizma, дубока фасција, a.transversa colli, v.jugularis extern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nn.supraclaviculares, и доњи трбух омохиоидног мишић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 трункуси избијају на површину између предњег и средњег скаленског мишића (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spatium interscalenum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) а изнад a.subclavia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PB пролази испод клавилуле и испред m.subscapularis-a и улазе у пазушну ја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Duchenne-Erb-ova парализ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(парализа прегибача и пронатора руке) настаје повредом C5 i C6 живц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Klumpke-ova парализа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(парализа опружача и супинатора руке) наста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повредом C6,C7,C8 i Th1 жив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Arial"/>
              </a:rPr>
              <a:t>Гран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PLEXUS BRACHIALIS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Бочн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dorsalis scapul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thoracicus lon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prascap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bclav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pectoralis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pectorali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thoracodors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subscap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59280" y="1557360"/>
            <a:ext cx="44956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Завршне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musculocutan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radix lateralis n. med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radix medialis n. med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ulna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cutaneus brachii me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cutaneus antebrachi me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400" spc="-1" strike="noStrike">
                <a:solidFill>
                  <a:srgbClr val="ffff00"/>
                </a:solidFill>
                <a:latin typeface="Comic Sans MS"/>
              </a:rPr>
              <a:t>fasciculus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radi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- n. axillaris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859280" y="836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327"/>
                </a:solidFill>
                <a:latin typeface="Comic Sans MS"/>
              </a:rPr>
              <a:t>Pars infraclavic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24000" y="83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327"/>
                </a:solidFill>
                <a:latin typeface="Comic Sans MS"/>
              </a:rPr>
              <a:t>Pars supraclavicul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Завршне гране plexus brachialis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6553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later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musculocutan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adix lateralis n.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me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adix medialis n.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ulna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cutaneus brachii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cutaneus antebrachi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fasciculus pos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ra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axillaris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.MUSCULOCUTANEUS  N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настаје од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lateralis-a plexus brachialis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настаје код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доње ивице m.pectoralis major-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овреде NMS доводе д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Губитка способности флексије подлак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Отежане супинације подла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NMS инервише:    a. моторно: m.biceps brachii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m.coracobrachialis, m.brachial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Сензитивно: зглоб лакта и рамени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вршна грана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n. cutaneus antebrachi lateralis (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 кожу спољашњег</a:t>
            </a:r>
            <a:br>
              <a:rPr sz="2000"/>
            </a:b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                                      дела подлак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0492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.</a:t>
            </a:r>
            <a:r>
              <a:rPr b="1" lang="en-GB" sz="4000" spc="-1" strike="noStrike">
                <a:solidFill>
                  <a:srgbClr val="ffcc00"/>
                </a:solidFill>
                <a:latin typeface="Arial"/>
              </a:rPr>
              <a:t>MEDIANUS 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N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1752480"/>
            <a:ext cx="899172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ffcc00"/>
                </a:solidFill>
                <a:uFillTx/>
                <a:latin typeface="Arial"/>
              </a:rPr>
              <a:t>настаје из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radix lateralis n.mediani fasciculus lateralisa </a:t>
            </a:r>
            <a:r>
              <a:rPr b="0" lang="sr-CS" sz="18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radix medialis n.mediani fasciculus mediali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oви коренови се спајају у NM на предњој или спољњој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трани a.axilla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у надлакту пролази кроз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ulcus bicipitalis medialis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, пратећи 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a. brachialis</a:t>
            </a: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 и налази </a:t>
            </a:r>
            <a:br>
              <a:rPr sz="1800"/>
            </a:br>
            <a:r>
              <a:rPr b="0" lang="sr-RS" sz="1800" spc="-1" strike="noStrike">
                <a:solidFill>
                  <a:srgbClr val="ffcc00"/>
                </a:solidFill>
                <a:latin typeface="Arial"/>
              </a:rPr>
              <a:t> се споља од ње, док у доњем делу подлакта прелази на њену унутрашњу стр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у лакатној јами NM je површан, лежи на m.brachial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покривен је кожом и биципиталном апонеурозом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иде предњом страном подлаката,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alis carpalis,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улази у шаку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дели се на завршне г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3610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N. MEDIA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9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Моторне(мишићне)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нервишу све мишиће предње групе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подлакта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зузев m. flexor carpi ulnaris-a </a:t>
            </a:r>
            <a:r>
              <a:rPr b="0" i="1" lang="sr-CS" sz="2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унутрашње половине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. flexor digitorum profundus-a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eminentiae thenaris 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изузев m.adductor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pollicis</a:t>
            </a: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lumbricales I,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r. mus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. interosseu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brachii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Сензитивне</a:t>
            </a:r>
            <a:r>
              <a:rPr b="1" i="1" lang="sr-Latn-CS" sz="2800" spc="-1" strike="noStrike">
                <a:solidFill>
                  <a:srgbClr val="ffff00"/>
                </a:solidFill>
                <a:latin typeface="Comic Sans MS"/>
              </a:rPr>
              <a:t> (кожне) г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r. palmaris n. medi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- nn. digitales palmares communes (I-I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sr-Latn-CS" sz="3600" spc="-1" strike="noStrike">
                <a:solidFill>
                  <a:srgbClr val="ffcc00"/>
                </a:solidFill>
                <a:latin typeface="Arial"/>
              </a:rPr>
              <a:t>N.ulnaris 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настаје од </a:t>
            </a:r>
            <a:r>
              <a:rPr b="0" lang="sr-Latn-CS" sz="1800" spc="-1" strike="noStrike" u="sng">
                <a:solidFill>
                  <a:srgbClr val="ffcc00"/>
                </a:solidFill>
                <a:uFillTx/>
                <a:latin typeface="Arial"/>
              </a:rPr>
              <a:t>fasciculus medialisa plexus brachialis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у пазушној јами NU се налази између a.axillaris и v.axillar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kроз надлак</a:t>
            </a: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NU иде кроз sulcus bicipitalis medialis, унутра од a.brach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NU затим пролази кроз </a:t>
            </a:r>
            <a:r>
              <a:rPr b="1" lang="sr-Latn-CS" sz="1800" spc="-1" strike="noStrike">
                <a:solidFill>
                  <a:srgbClr val="ffcc00"/>
                </a:solidFill>
                <a:latin typeface="Arial"/>
              </a:rPr>
              <a:t>sulcus n.ulnaris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на задњој страни унутрашњ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епикондила humerus-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U пролази кроз </a:t>
            </a:r>
            <a:r>
              <a:rPr b="1" lang="sr-CS" sz="2400" spc="-1" strike="noStrike">
                <a:solidFill>
                  <a:srgbClr val="ffcc00"/>
                </a:solidFill>
                <a:latin typeface="Arial"/>
              </a:rPr>
              <a:t>унутрашњи канал ручја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U се завршава у висини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os pisifo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500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cc0000"/>
                </a:solidFill>
                <a:latin typeface="Comic Sans MS"/>
              </a:rPr>
              <a:t>Бочне гране</a:t>
            </a:r>
            <a:r>
              <a:rPr b="1" i="1" lang="sr-Latn-C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00"/>
                </a:solidFill>
                <a:latin typeface="Comic Sans MS"/>
              </a:rPr>
              <a:t>n. ulnaris-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7696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( у подлак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r. musculares</a:t>
            </a:r>
            <a:r>
              <a:rPr b="0" i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(моторна)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 - за 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. flexor carpi ulnaris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RS" sz="2400" spc="-1" strike="noStrike">
                <a:solidFill>
                  <a:srgbClr val="ffff00"/>
                </a:solidFill>
                <a:latin typeface="Arial"/>
              </a:rPr>
              <a:t>унутрашњу половину</a:t>
            </a: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 m. flexor digitorum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. dorsalis n. ulnaris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r. palmaris n. ulnaris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218960" y="549000"/>
            <a:ext cx="7543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00"/>
                </a:solidFill>
                <a:latin typeface="Comic Sans MS"/>
              </a:rPr>
              <a:t>Завршне гране n.</a:t>
            </a:r>
            <a:r>
              <a:rPr b="1" i="1" lang="sr-Latn-C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i="1" lang="sr-Latn-CS" sz="2400" spc="-1" strike="noStrike">
                <a:solidFill>
                  <a:srgbClr val="cc0000"/>
                </a:solidFill>
                <a:latin typeface="Comic Sans MS"/>
              </a:rPr>
              <a:t>ulnaris-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Arial"/>
              </a:rPr>
              <a:t>* Ramus superfic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моторна грана за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зa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m. рalmaris brev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n. digitalis palmaris communis 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(kожна гра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Arial"/>
              </a:rPr>
              <a:t>* Ramus profun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 Све мишиће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hypothenar-a (изузев m. palmaris brevi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Све интеросеалне мишић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mm. lumbricales III, IV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</a:rPr>
              <a:t> m. adductor pollic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00007N442 copy"/>
          <p:cNvPicPr/>
          <p:nvPr/>
        </p:nvPicPr>
        <p:blipFill>
          <a:blip r:embed="rId1"/>
          <a:stretch/>
        </p:blipFill>
        <p:spPr>
          <a:xfrm>
            <a:off x="1905120" y="152280"/>
            <a:ext cx="4968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</a:rPr>
              <a:t>Бочне гране a. axillar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ica supr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oacromialis-AT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заврш гр</a:t>
            </a:r>
            <a:r>
              <a:rPr b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 AT su: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r. deltoideus; r. acromialis;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r. clavicularis; r.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ffff00"/>
                </a:solidFill>
                <a:latin typeface="Arial"/>
              </a:rPr>
              <a:t>pectoralis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thoracica late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subscapularis -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завршне гране AS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. thoracodorsal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a. circumflexa scapulae</a:t>
            </a:r>
            <a:r>
              <a:rPr b="1" i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(foramen triangula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circumflexa humeri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●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a. circumflexa humeri posterior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</a:rPr>
              <a:t>(foramen quadrilater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N.AXILLARIS 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- настаје од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posterior plexus brachialisa</a:t>
            </a: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iz 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fossae axillaris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излази кроз foramen quadrilaterum, заједно 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circumflexa humeri posteri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NA обилази око</a:t>
            </a: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 хирушког врата раменице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 покривен m.deltoideus-ом  даје гране за зглоб рамена и после тога се дели на: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Предњу гра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б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. Задњу грану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моторно инервише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m. deltoideus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m. teres mi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повреда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 N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доводи д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a. Отежане абдукције и спољње ротације надлакт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б. Губитка сензибилитета у пределу делтастог мишића и спољње</a:t>
            </a:r>
            <a:br>
              <a:rPr sz="2000"/>
            </a:b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стране надла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sr-Latn-CS" sz="5400" spc="-1" strike="noStrike">
                <a:solidFill>
                  <a:srgbClr val="ffcc00"/>
                </a:solidFill>
                <a:latin typeface="Arial"/>
              </a:rPr>
              <a:t>N.radialis N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настаје од  </a:t>
            </a:r>
            <a:r>
              <a:rPr b="0" lang="sr-Latn-CS" sz="2000" spc="-1" strike="noStrike" u="sng">
                <a:solidFill>
                  <a:srgbClr val="ffcc00"/>
                </a:solidFill>
                <a:uFillTx/>
                <a:latin typeface="Arial"/>
              </a:rPr>
              <a:t>fasciculus posterior plexus brachialisa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пазушној јами налази се иза a.axilari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надлакту NR прати a.brachialis, иде кроз sul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n.radialis на задњој страни humerusa,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заједно с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a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  a.profunda bra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- у пределу предње стране спољ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sr-RS" sz="2000" spc="-1" strike="noStrike">
                <a:solidFill>
                  <a:srgbClr val="ffcc00"/>
                </a:solidFill>
                <a:latin typeface="Arial"/>
              </a:rPr>
              <a:t>шњег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епикондила хумеруса 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дели се на завршне гране површну и дубоку (r.superficiali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s</a:t>
            </a:r>
            <a:br>
              <a:rPr sz="2000"/>
            </a:b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ffcc00"/>
                </a:solidFill>
                <a:latin typeface="Arial"/>
              </a:rPr>
              <a:t> r.profund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NR има две завршне гране</a:t>
            </a: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a.површна</a:t>
            </a:r>
            <a:r>
              <a:rPr b="0" lang="sr-RS" sz="2400" spc="-1" strike="noStrike">
                <a:solidFill>
                  <a:srgbClr val="ffcc00"/>
                </a:solidFill>
                <a:latin typeface="Arial"/>
              </a:rPr>
              <a:t> (сензити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cc00"/>
                </a:solidFill>
                <a:latin typeface="Arial"/>
              </a:rPr>
              <a:t>б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убока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 (мотор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Моторно инервиш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задње групе надлакта</a:t>
            </a:r>
            <a:br>
              <a:rPr sz="2400"/>
            </a:b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спољашње групе подл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ffcc00"/>
                </a:solidFill>
                <a:latin typeface="Arial"/>
              </a:rPr>
              <a:t>- мишиће задње групе подл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ffcc00"/>
                </a:solidFill>
                <a:uFillTx/>
                <a:latin typeface="Arial"/>
              </a:rPr>
              <a:t>Бочне гране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NR с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brachii posteri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brachii lateralis inferi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r>
              <a:rPr b="0" lang="sr-Latn-CS" sz="2400" spc="-1" strike="noStrike">
                <a:solidFill>
                  <a:srgbClr val="ffcc00"/>
                </a:solidFill>
                <a:latin typeface="Arial"/>
              </a:rPr>
              <a:t>- n.cutaneus antebrachi pos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c00"/>
                </a:solidFill>
                <a:latin typeface="Arial"/>
              </a:rPr>
              <a:t>(сензитивне гра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PB 28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PB 23a"/>
          <p:cNvPicPr/>
          <p:nvPr/>
        </p:nvPicPr>
        <p:blipFill>
          <a:blip r:embed="rId1"/>
          <a:stretch/>
        </p:blipFill>
        <p:spPr>
          <a:xfrm>
            <a:off x="2556000" y="260280"/>
            <a:ext cx="4537080" cy="6408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72072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AXIL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до доње ив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m. teres major-</a:t>
            </a:r>
            <a:r>
              <a:rPr b="0" i="1" lang="sr-Latn-CS" sz="1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A. BRACHIA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к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роз sulcus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bicipitalis medi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</a:t>
            </a:r>
            <a:r>
              <a:rPr b="0" i="1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до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лакатне ја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(fossa cubital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ЗАВРШНЕ Г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0" i="1" lang="sr-CS" sz="2000" spc="-1" strike="noStrike">
                <a:solidFill>
                  <a:srgbClr val="ffff00"/>
                </a:solidFill>
                <a:latin typeface="Arial"/>
                <a:ea typeface="Arial"/>
              </a:rPr>
              <a:t>у висини</a:t>
            </a: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colum rad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 a.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- a. uln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268360" y="907920"/>
            <a:ext cx="142920" cy="792360"/>
          </a:xfrm>
          <a:prstGeom prst="downArrow">
            <a:avLst>
              <a:gd name="adj1" fmla="val 50000"/>
              <a:gd name="adj2" fmla="val 13860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2362320" y="2362320"/>
            <a:ext cx="142920" cy="792000"/>
          </a:xfrm>
          <a:prstGeom prst="downArrow">
            <a:avLst>
              <a:gd name="adj1" fmla="val 50000"/>
              <a:gd name="adj2" fmla="val 13853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286000" y="4114800"/>
            <a:ext cx="142920" cy="720720"/>
          </a:xfrm>
          <a:prstGeom prst="downArrow">
            <a:avLst>
              <a:gd name="adj1" fmla="val 50000"/>
              <a:gd name="adj2" fmla="val 12607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U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S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B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TAL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S MEDI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– SB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границе СБ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поља и напред:  m.coracobrach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. biceps brachi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унутра:                   humer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оз СБM пролазе:      a.brachialis, vv.brachiales, n.medianus, n.ulnar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cutaneus brachii medial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cutaneus antebrachii mediali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*сви ови eлементи су обавијени фасцијама и одвој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д суседних мишића и кости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7745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Бочне гране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brach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. profunda brach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 collateralis radi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i="1" lang="sr-Latn-CS" sz="2800" spc="-1" strike="noStrike">
                <a:solidFill>
                  <a:srgbClr val="ffff00"/>
                </a:solidFill>
                <a:latin typeface="Arial"/>
              </a:rPr>
              <a:t>- a. collateralis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a. collateralis uln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sup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●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a. collateralis ulna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inf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0001"/>
          <p:cNvPicPr/>
          <p:nvPr/>
        </p:nvPicPr>
        <p:blipFill>
          <a:blip r:embed="rId1"/>
          <a:stretch/>
        </p:blipFill>
        <p:spPr>
          <a:xfrm>
            <a:off x="2714760" y="1600200"/>
            <a:ext cx="3714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971800" y="228600"/>
            <a:ext cx="30733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А. RADIALIS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535680" y="1676520"/>
            <a:ext cx="8539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a. radial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де спољашњим делом предње стране подлакта; у горњем де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длата покривена ј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. barchioradialis-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у доњем делу подлакта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cus puls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CUS PULS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споља: тетив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. brachioradiali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унутра: тетив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. flexor carpi radiali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- дно: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. pronator quadr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потом артерија скреће упоље и позади, пролази кроз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vea radialis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и прела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на дорзалну старну ша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9:00:52Z</dcterms:created>
  <dc:creator>Dejan</dc:creator>
  <dc:description/>
  <dc:language>en-US</dc:language>
  <cp:lastModifiedBy>Vista</cp:lastModifiedBy>
  <dcterms:modified xsi:type="dcterms:W3CDTF">2014-07-25T01:12:13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